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7EF-60FF-4533-966B-5A019B71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26A-AB01-4A63-82AF-A2DEBF8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24E-D55A-4FE0-B921-3B287B05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7F3-0672-4442-830D-9B6A9E31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58DF-A03E-48D0-9208-9AE4E901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4A9E-3A27-483C-B7C3-842A5FC6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8EC8-E354-4663-B76A-E78D9DE8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8B14-0517-4B16-B256-3647130F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653-A7D5-4C8B-AB3C-588C2B5E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285A-FD26-46CD-A04B-A3576C2B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3B6-4695-405B-B110-377E45D7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26E-BE69-4468-AAF2-F1ADC352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0AAB-A032-4BAA-AA88-38DD8BA4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C9BA-07FF-4CAE-B183-18C1E355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0481-320F-459A-B402-1034E4A5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B427-FCAA-45A8-8B47-A1AF2D97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E28F-3EB8-4248-B628-61F1A1C0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3E6-3244-4332-93FD-DDA5ABD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790-AE30-4D82-8FCD-748F2B0D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8C3-5A9C-40BA-B11E-52209DE2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8E5-D5D8-4002-B70E-DBC3E9FC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347-B1F2-4296-BD37-1A045645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392-BD4F-431B-B30D-E74693D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731-E9F3-4F7C-8236-60FA38E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B503-3078-4148-85FE-71C302E69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1B0A-1959-4384-B460-E8A01FDCC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orable Red Pan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i Yamamo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DBE-6EAC-4842-81D4-D4F3A8CA95B4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nt my audience to know the beautiful characteristics of the red panda and where it lives, what it eats, and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st, I would introduce my ani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, I would tell about the habit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, I would tell about what it e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t, I would tell about the preda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make money by making it very interesting and informati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make this movie special by using good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9:07:41Z</dcterms:created>
  <dc:creator/>
  <dc:description/>
  <dc:language>en-US</dc:language>
  <cp:lastModifiedBy>City School</cp:lastModifiedBy>
  <dcterms:modified xsi:type="dcterms:W3CDTF">2013-02-20T19:22:43Z</dcterms:modified>
  <cp:revision>39</cp:revision>
  <dc:subject/>
  <dc:title>The Pitch-Then-Plan Business Planning Template</dc:title>
</cp:coreProperties>
</file>